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20B-D09C-480A-BD0B-BFD41D55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30B-AE43-4C34-BD96-D9623D24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4C033-EA7D-4174-A2F2-AF85B054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870CE-A237-4E80-BBEC-E661BE78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F663B-9636-4201-991F-04ECB6CD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54092-C6DA-4919-A360-39031CA0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36C3D-BBDE-4212-871C-A83CA684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C055E-BAD6-407F-9091-03E2AAAF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D3258-A41F-42DF-B625-4B7D1B6E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AAC92-105D-4591-A280-3A22435F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73DED-8892-48AD-9849-E17B0888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30E45-44C2-47F9-BB27-4EA30FD5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A88-5841-4156-B70B-878724F8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81865-1673-43D7-B865-52BE9153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EFF9D-47D5-460E-8865-7AEDE56F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05066-8545-41EF-913A-C9D6C7A4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2063B-3247-4A54-AFA2-ADB85883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6E5AF-B862-406E-BE22-CCE899C5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E06DC-7BAB-4773-B558-BE1D6B31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254CD-C0CD-4082-902D-5E4C9E80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F5F85-19C9-41AB-AF49-09ED2503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EDC0E-E460-4B5E-9727-25669729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5FB0A-11F4-400F-B3CC-34FF2F11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8BC-17A1-48D4-B441-E5CAE9D6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02AC7-9CD2-432D-956C-BE2CBBB3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B8614-9A95-4DA0-BD27-BDC6DB87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6946B-8DAF-4816-8C6E-52B9BBDF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994A2-4F99-4D30-87DB-5919480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3D87A-671E-4ED4-A49B-39B0B0A6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BFD22-8A9F-437E-8FF0-DA378957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7FAC9-C652-49F0-B11F-E88C1FEE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AF796-FB2F-4314-8974-9BAA1C06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C0CEF-0F84-402A-B958-B67A6779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F269E-3B25-4364-812D-9745A846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24E6-5776-4E6A-8C47-911E269F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49142-3C1A-4BCC-AEB3-D45F350C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4B12B-AFA9-4938-B060-69F2857E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5EDD2-8F72-4940-8A78-1AB32356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A036B-EF5D-436D-BED3-9ABBB0C0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58D85-3D3C-40F8-AD8C-B866AAD8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29B4C-E176-4750-915B-3AECC642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A091D-CB4A-4925-9116-0DD49F68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D4DB9-3996-4C18-99CF-EB79F6FF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B8D71-10A4-484F-B2FA-E4B2A7F1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9858E-7244-4E8C-968E-12A52FCA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1375-F164-4F01-8952-25498313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DA14D-7DCC-4E1D-9F6D-5EF717BB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FF8F1-3338-4BF0-9F51-6CDB3CA1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717B3-500D-425E-8436-23B94B87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8A3A6-C129-40B8-AC49-6C8ED77A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54194-A713-4C46-8F2D-9203E0A4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8160D-5040-4EBB-8DE4-83D39A08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91B34-54D5-4CAC-9B47-EB4A5F87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332C7-B5ED-4544-8BFC-AC6A018E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05EEA-3332-4F80-BAD7-AFD12733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76757-C27E-4D18-9264-3C7D52CF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29C9-BE28-4489-8249-D8FB3279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41AB7-B430-4235-86E1-8ADE8866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7C718-A5E5-47E9-B05D-482E0E6C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DEB3D-6744-4900-8DBF-CE969F97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7DC05-D8B6-4B28-9911-D3FB558C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B7D88-B013-4222-A65B-418D5780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09F09-8DBB-4CAA-862C-AA6A86C4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D3FCB-64AF-41F8-B209-7884DDEB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A85C9-D3AD-44D8-B801-1C69F201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BAED0-253B-4565-B0C5-5769227B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3A187-40DB-4187-B038-1084B04F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DBFF-1DE0-47BF-8968-F26C11A2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8A946-D9E9-4B57-B80F-07AA0BB1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7E1CA-134F-467B-9FA7-CEEFE2B3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0D4A3-3B9F-465D-9403-C985A951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51550-7D99-4179-A019-6C1A66A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E627D-F553-464F-8102-5047FE51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46006-2BE3-408B-88C6-6A649CC9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19D02-06C1-4445-9FFE-B432C69A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8EB49-5CAD-46D5-AE0A-21707757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B2CFE-092D-4611-8B1F-FC0B7FC7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5BFE24-E304-4566-B2F1-B85C74B5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1783-C40C-465B-A583-B6187638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3E4B0-E5DE-4C15-8ED9-74BEADA6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566A4-8C21-4F8B-A55E-86310ABC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9A2D8-D842-45FF-8310-25711D73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1E445-886B-4587-B0E3-A2A35A7C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01D1D-9210-4156-9AEF-5594B50C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546B8-487E-4E11-92D8-C4432F62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B86B5A-EFCC-4080-8357-8D3709D2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7972F-0FB8-42FD-B7A7-EF301F96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BFF29-131F-4E95-B8B4-D868D6D6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08E5F-CA91-4877-9C6D-CDA36B61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76F9-6FBC-4274-838A-DD99B131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DE73A-3623-4572-BB0A-DE389F3A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15815-98C7-4AF9-935D-91CDECBD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881FB-C00B-4B63-BEA5-D213E610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8A5B46-ED63-45B5-BD1A-B8886B27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031507-3183-4326-9890-BA7AC47E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5D9F5D-46DC-4F4C-965C-1B1C6831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00D21-077C-408B-91C2-B40E7D94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AE7AB3-574F-4F1A-9A69-6AFF6B02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17FCC-FF27-46C3-963E-BCF082F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96961-80B1-4080-BE46-986FE14C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4CC9-5890-4263-B92B-3B724D54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A9E1A1-4040-4E7E-866B-C62A067B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F9D91-7566-4991-B48B-0BCB2367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49FF8-914A-441B-A5CB-3128AF2A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8BDBC4-1063-447D-96C3-49D87469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2EEA4E-649A-4BFF-9CCE-E022967A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1630C-5383-4631-8881-58CCA8F9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27EC03-B35B-468E-BA9B-14A49CA3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17334-C6FF-4878-BEB5-92253F42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4F20CE-3A28-4AE9-8186-CDC38A51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E9FDA-BC16-4745-A322-E5967800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7B2-DBB4-42BF-9307-03509BFB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D310-A7DE-402F-B259-97A11895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6CBA0-0E20-4117-8497-4C5749DC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6BC9E-1E71-426D-A770-320736BF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58C0F-63B4-43A8-92E8-C810FF20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2B97B-C583-4635-BE5B-B937C7BF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21F84-0986-4291-BAE0-41EC5C6F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A1DD6-BF9C-427B-912E-781B4CC9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40E247-B4B2-4F81-809B-65A505E0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3A48C5-07B9-4332-97E6-C1C84D65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90F7E-322A-4C48-98DC-636EAE7B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55F346-A40A-4CBB-BDCC-770D7D2D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F65E-5991-4082-B906-48926E2B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49BE6F-3BC4-4D03-A9B8-E70359AF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1FFCF2-C7BC-48CF-98DB-E0B5F62C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71FA5-8C65-4618-9512-BFC869D7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15FF09-8892-45D5-B2E3-81811F67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C7252-8595-4160-90B7-CA5DD093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37F9B-86FA-4C00-9B31-18541741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5D11F4-0149-4F54-BE7D-D6E23BFD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1228BC-1AD2-49CB-A798-703546DB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0697AB-5AB7-4B1D-ABF9-CB313E80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B1C60E-FBD5-4B54-B8BE-7593C7BA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6D98-0E2E-413A-BED4-86B3041C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7CFC13-1BC1-4B1D-BB44-1AE06507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270EC9-076A-4D2D-B5F8-F9641971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2F3F20-1947-409D-9A4E-F5414C28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427F4-3D99-45F5-8317-578E6060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8B86DD-E734-4818-83D9-89D3CC2C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34EE1-D579-4B9C-B054-9EB8BC48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F38B2-A264-4351-A1A1-A369B947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C8185-478E-4247-AC6F-6897D096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030266-B4FD-4BE4-9310-C2B19463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F34EC-B702-4249-B626-344E626C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F629-6343-4A8B-BF1D-6F5E3751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84664-B982-4082-A013-A536AA83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5005C0-03FE-4A3A-9C79-EE9F858D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619098-B092-42DD-B4D4-CB3B8DAA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98752-FED0-4E17-ABCE-A984271E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1C9762-DFE8-4675-BFB7-917BF728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55BC2-1D1E-4306-B5E0-8F0D33F2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51EEE-1564-4F1C-BFE6-CC4703B9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3727C-E7C8-4783-8F23-17CBC416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D3AF4-94B4-400E-A6F6-5EA4BC10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5F203-C69B-4D3C-A5C9-F2A03FEC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A741-CADC-4BD4-991A-BC425FE7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A2489C-5959-4190-8908-E2EE9110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D3F72-62FB-4E03-96BE-87CE8684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B5A610-62C4-4B99-B8A2-7300E614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AA79C-3AFF-41AA-9E57-DE3C3EE5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FF9CF7-8537-4FA5-99F0-218604FB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FA9230-B34F-4131-80E3-4F5D20EC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0CF20A-CEB7-402B-8FC3-0ADC3FAB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228DB2-26B0-45DB-AD85-D28605F6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F459F-0420-4DC9-A0B2-1A972397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A6AED4-6B09-4E39-8C87-CA674DC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2236-3028-41B8-9870-D1E4AC98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E5B6E8-A2DE-4CA4-AC2A-F3B0B499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91B0A-129A-4C8B-B2AA-D89DD2B0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61B61-C4A8-4057-B1CC-388BF8D8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9C29-21C3-4E40-9850-FBFB9CC2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A01C0-68E8-41A5-9668-34CB2BD3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DA69-7E96-4082-BBD7-38051135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9314-5845-4841-B3B2-12F5D8A7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C86-C8E3-43C9-B6EF-BA022263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7C6BE-8E6C-4421-AE86-1A9FCDF2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7FAD-A76D-46B3-A68D-DF549D4A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E8E3-F350-4BDE-B217-47FD7AFB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17F1-DFC3-4101-9BBC-2995177F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1A35-ABCB-49A7-A9B8-70EDFAAD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B6B4-1C2A-4967-97AC-A1AA543A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61B7-F1CA-4EDC-B1A7-EBEADD81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AFA6-BD5D-477B-897B-417C9252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A2BE3-7613-4A01-BB55-EB4557FC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B09EF-170D-4D8F-B535-F8FEC985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B25-31DB-4A65-99E8-51FB3B0D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AA251-EE94-47B2-BDB9-8B42771C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EE72E-2D66-4446-B6B0-B433A867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93968-6876-4EF4-A59E-3DCB17B5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80D5-07D5-4C5F-B6CD-DD021E5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38A3-9E83-4E6B-BE35-714A2EE8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D56A-9CFB-4291-BBA3-B6830ED8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1426-EBEB-4A76-98AD-8820F55C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905F9-E99F-4B28-9B47-03D0E836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D1380-F746-4CD1-8FF1-B50D2A4F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95FA4-9D21-4A77-A2D2-9669E85B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F49-ED40-406B-8223-60ED8410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11022-F1D9-436E-B765-61A0EE4F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F6FF5-F2CE-44BC-9349-FF521E2A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2BA36-75C5-4F61-8077-2C8F9B87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C8207-8017-4F01-B5BB-DFD696EE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1C1F4-C88D-41EB-AA7E-9BE8D265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C4665-CF97-4459-ACFC-967C4256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559FA-DFE1-4091-9D93-B2C80A63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083B-C4D6-4548-B346-1F3BFEDA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7B23E-C11F-4CAA-877E-AA203652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7040D-E4B4-467E-9143-B63A8556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15A-C008-45D5-AFFE-FD4F59A2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6BDD0-7A7D-41FC-B23F-3BA24A31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E3C26-059D-452F-9A38-CE0BF2CA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2C645-F7FE-48A1-86CF-ADB026CD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6E7F0-FF3A-413A-B9DF-A82204E4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2F6A1-F11E-42D5-87B1-A0DF0DF1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C601A-E34F-4F9C-8E72-E418A8AB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58D29-56F2-4777-823D-ED026839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D03DC-C52C-4D38-947C-CCF63F84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B9C41-FB48-4777-91FB-E9B3081E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C61B2-442D-4A7F-AC99-AAAA7220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494-839A-409A-B1CA-7838C4D9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E5EA2-D889-43C6-AFF5-2213D713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4467F-13B3-4BBD-8205-44CB1E6F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3BD7D-5578-4EC3-A06C-170F1A2B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8B87-5C47-4487-B7DE-4FDBCADF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51B9E-9450-46CA-8B4A-1776CF35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6094E-E3FB-4207-80A3-F1E7C505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DD49C-E0CA-449F-889A-5FAA3365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83B1F-9FC5-4B02-80E3-370869AA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D0FC1-42E2-4734-9AED-269E9358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D5750-5FFC-42C1-BB81-D1DCE30F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300-F699-48E5-BA19-12F0670A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AB1F1-A875-400B-81A4-937D1207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03820-ACBE-4876-BED3-F4C1294C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01A16-122F-408F-8B83-0B01B31C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DB439-5419-434B-A1A7-ED914D04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1098F-6DE0-4EEA-B552-0B6834D2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E8C94-3E61-4CD6-9877-83FF481C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70D5C-7C1E-4C38-B838-6307EE41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846A3-1F33-43B4-B001-F2028709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E027E-74FB-4542-A0D1-65547CF2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B4EB7-8285-4418-A9E3-6F9DA798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765-6490-4BDA-A60D-64E4E05C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9DBC0-E831-44EE-B6B9-46173755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537F0-4E5C-4E98-AF1D-6D046B50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D576B-C6C3-4E85-BAC9-3CB7BFED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90E10-7BBC-41BF-A260-7E72B921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C9B25-CBF0-4DAB-8A37-0AEC09F3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EDEAF-430F-4E5D-81ED-A9673BA2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6B5D1-6EBB-4F10-84C3-7E7B11CE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A2AB1-E3DF-414B-A6F6-F9CA9797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95A48-D9DF-42C7-98DC-E6F2E29A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EDAAB-1AF2-45A3-8A4A-340CCB21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3F4D-802D-4E40-A830-83CF489854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63F6-929C-4959-84CE-2C67FF42A1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A75C-ECD3-448D-91FF-3B12FB815E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E02D-4D7E-4946-AE17-E4CB99517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DEAE-53EA-4C6A-B89B-BA872B9317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0BBF-7E38-4166-8B44-C17BF3B15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01B0-F6EA-4F55-8ABE-474742BA3D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900D-6948-438F-9FB7-A649F4F994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9983-4352-4B89-A4FB-172B9D3D4D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49A2-AEE9-498D-8466-6C6AA7EA8E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330B-2192-4705-BE1E-898BC438F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445A-6873-4C75-B506-BD2EDCCE06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FF7C-6E4C-4C47-BC03-4B4F9AD2E2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C057-3B4A-4803-BD01-BCB01813D4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96E3-B8F6-413B-BFE2-BC996C1A6E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9F89-7F26-4351-BFE1-904410AC6A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546A-6891-4D98-AB15-E07AD81F74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D0F9-51FF-4C02-B7C9-89B7FEFCA0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B31A-B4BA-4C09-B1C0-C7AC83F652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5D59-A48E-4427-8AC2-F9AC6D5A69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833B-D561-4A8A-81E8-CF3D351F9C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42A5-807F-4B13-A39A-2246A61E50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C35F-2EC7-44FA-B0BC-E9CC8DB292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3E62-FD65-4A60-8BCB-F702DD81D5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1EA3-A471-4377-98F7-861A93D6B9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EDE3-BA58-4E64-9D94-EC485D0E4F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2D0E-0E82-4873-B02E-25E4EBA51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DD00-F90E-4EA3-89E8-AAD4B77407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F946-1875-4BA9-9727-EAF3362E11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26BA-C375-452B-A4D5-01698767B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6E9C-59FD-4696-92E7-F7CE8CBFFE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C1C4-9576-4020-8984-01C6677DAA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A315-9C50-4E8A-89BD-C9D20AD6E6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81E4-B4F3-4539-8DA1-242B2B070D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2F17-02D9-4D1B-90D2-D87A845721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3CB0-A471-4720-B6DB-1B2AE88B5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013D-D9D3-44B7-8790-E32F2903B1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2512-BAFE-4442-ABEE-8CE3239F44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6871-2D3A-4800-868F-1713EB6E92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8051-AE69-40F1-A7AC-F0DBDC5A8A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54080" y="2836800"/>
            <a:ext cx="866592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971640" y="728640"/>
            <a:ext cx="6896160" cy="5724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1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116000" y="3573360"/>
            <a:ext cx="6192720" cy="476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1258920" y="5257800"/>
            <a:ext cx="6192720" cy="476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1258920" y="5877000"/>
            <a:ext cx="6192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59410" descr=""/>
          <p:cNvPicPr/>
          <p:nvPr/>
        </p:nvPicPr>
        <p:blipFill>
          <a:blip r:embed="rId1"/>
          <a:stretch/>
        </p:blipFill>
        <p:spPr>
          <a:xfrm>
            <a:off x="757080" y="1076400"/>
            <a:ext cx="7629840" cy="4705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6335640" cy="476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6335640" cy="476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684360" y="4076640"/>
            <a:ext cx="6335640" cy="476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684360" y="4653000"/>
            <a:ext cx="6335640" cy="476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619280" y="5229360"/>
            <a:ext cx="6335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8373" descr=""/>
          <p:cNvPicPr/>
          <p:nvPr/>
        </p:nvPicPr>
        <p:blipFill>
          <a:blip r:embed="rId1"/>
          <a:stretch/>
        </p:blipFill>
        <p:spPr>
          <a:xfrm>
            <a:off x="1238400" y="1133640"/>
            <a:ext cx="6667200" cy="4590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6840720" cy="476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6840720" cy="476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6840360" cy="476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900000" y="4581360"/>
            <a:ext cx="6840720" cy="476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900000" y="5229360"/>
            <a:ext cx="6840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7352" descr=""/>
          <p:cNvPicPr/>
          <p:nvPr/>
        </p:nvPicPr>
        <p:blipFill>
          <a:blip r:embed="rId1"/>
          <a:stretch/>
        </p:blipFill>
        <p:spPr>
          <a:xfrm>
            <a:off x="747720" y="776160"/>
            <a:ext cx="7648560" cy="5305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684360" y="1440000"/>
            <a:ext cx="5975280" cy="476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755640" y="1989000"/>
            <a:ext cx="5975280" cy="476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1116000" y="2565360"/>
            <a:ext cx="5975280" cy="476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1116000" y="3141720"/>
            <a:ext cx="5975280" cy="476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6"/>
          <a:stretch/>
        </p:blipFill>
        <p:spPr>
          <a:xfrm>
            <a:off x="611280" y="4869000"/>
            <a:ext cx="5975280" cy="476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7"/>
          <a:stretch/>
        </p:blipFill>
        <p:spPr>
          <a:xfrm>
            <a:off x="1332000" y="5530680"/>
            <a:ext cx="5975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6324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467840" cy="44956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826920" y="1714680"/>
            <a:ext cx="5473800" cy="475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5473800" cy="4759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611280" y="4624560"/>
            <a:ext cx="8064360" cy="4759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468360" y="5200560"/>
            <a:ext cx="8064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55300" descr=""/>
          <p:cNvPicPr/>
          <p:nvPr/>
        </p:nvPicPr>
        <p:blipFill>
          <a:blip r:embed="rId1"/>
          <a:stretch/>
        </p:blipFill>
        <p:spPr>
          <a:xfrm>
            <a:off x="1243080" y="873000"/>
            <a:ext cx="6657840" cy="57247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264360" cy="476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1187280" y="2060640"/>
            <a:ext cx="6264360" cy="476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4"/>
          <a:stretch/>
        </p:blipFill>
        <p:spPr>
          <a:xfrm>
            <a:off x="900000" y="4365720"/>
            <a:ext cx="6264360" cy="476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5"/>
          <a:stretch/>
        </p:blipFill>
        <p:spPr>
          <a:xfrm>
            <a:off x="900000" y="4941720"/>
            <a:ext cx="6264360" cy="476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6"/>
          <a:stretch/>
        </p:blipFill>
        <p:spPr>
          <a:xfrm>
            <a:off x="900000" y="5445000"/>
            <a:ext cx="6264360" cy="476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7"/>
          <a:stretch/>
        </p:blipFill>
        <p:spPr>
          <a:xfrm>
            <a:off x="971640" y="6093000"/>
            <a:ext cx="626436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54276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5686560" cy="211464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5427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6619680" cy="33051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684360" y="1440000"/>
            <a:ext cx="684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684360" y="1930320"/>
            <a:ext cx="684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684360" y="2565360"/>
            <a:ext cx="684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684360" y="4437000"/>
            <a:ext cx="684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7"/>
          <a:stretch/>
        </p:blipFill>
        <p:spPr>
          <a:xfrm>
            <a:off x="684360" y="4927680"/>
            <a:ext cx="684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8"/>
          <a:stretch/>
        </p:blipFill>
        <p:spPr>
          <a:xfrm>
            <a:off x="684360" y="5562720"/>
            <a:ext cx="684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9"/>
          <a:stretch/>
        </p:blipFill>
        <p:spPr>
          <a:xfrm>
            <a:off x="539640" y="6165720"/>
            <a:ext cx="6840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52231" descr=""/>
          <p:cNvPicPr/>
          <p:nvPr/>
        </p:nvPicPr>
        <p:blipFill>
          <a:blip r:embed="rId1"/>
          <a:stretch/>
        </p:blipFill>
        <p:spPr>
          <a:xfrm>
            <a:off x="1414440" y="1986120"/>
            <a:ext cx="6315120" cy="2885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1403280" y="2579760"/>
            <a:ext cx="6769080" cy="476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1403280" y="3141720"/>
            <a:ext cx="6769080" cy="476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1332000" y="3803760"/>
            <a:ext cx="6769080" cy="476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1332000" y="4365720"/>
            <a:ext cx="676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09:0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